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56592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95544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39536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83564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685800" y="2692080"/>
            <a:ext cx="556272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29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78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1415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50192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56592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95544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39536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83564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7695720"/>
            <a:ext cx="1163304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5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8686800"/>
            <a:ext cx="11633040" cy="635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"/>
          </a:bodyPr>
          <a:p>
            <a:pPr indent="0" algn="ctr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 rot="80400">
            <a:off x="837720" y="4737240"/>
            <a:ext cx="5245200" cy="25380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5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413080"/>
            <a:ext cx="556272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5054760"/>
            <a:ext cx="5562720" cy="125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462960" indent="-46296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822600" indent="-46260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182960" indent="-46296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542960" indent="-46296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1902960" indent="-46260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1902960" indent="-462600">
              <a:spcBef>
                <a:spcPts val="10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1902960" indent="-462600">
              <a:spcBef>
                <a:spcPts val="10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2692080"/>
            <a:ext cx="556272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29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78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1415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50192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56120" y="2692080"/>
            <a:ext cx="556236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29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78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1415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50192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38160" y="4788000"/>
            <a:ext cx="12928680" cy="190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425320"/>
            <a:ext cx="11633040" cy="231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72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5130360"/>
            <a:ext cx="1163304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149640"/>
            <a:ext cx="11633040" cy="344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72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685800" y="533520"/>
            <a:ext cx="11633040" cy="868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965160" indent="-57132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409760" indent="-57168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854360" indent="-57168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2298600" indent="-57132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2298600" indent="-57132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2298600" indent="-57132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6ILQrUrEWe8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_YoMSl8A12I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5n5wj4LmWlg" TargetMode="External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u="sng">
                <a:solidFill>
                  <a:srgbClr val="009999"/>
                </a:solidFill>
                <a:uFillTx/>
                <a:latin typeface="Bodoni SvtyTwo ITC TT-Book"/>
                <a:hlinkClick r:id="rId2"/>
              </a:rPr>
              <a:t>What </a:t>
            </a:r>
            <a:r>
              <a:rPr b="0" lang="en-US" sz="5800" spc="-1" strike="noStrike" u="sng">
                <a:solidFill>
                  <a:srgbClr val="422e1f"/>
                </a:solidFill>
                <a:uFillTx/>
                <a:latin typeface="Bodoni SvtyTwo ITC TT-Book"/>
              </a:rPr>
              <a:t>is this statement referring to?</a:t>
            </a:r>
            <a:endParaRPr b="0" lang="en-US" sz="58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3"/>
          <a:stretch/>
        </p:blipFill>
        <p:spPr>
          <a:xfrm>
            <a:off x="1015920" y="2895480"/>
            <a:ext cx="1127772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Think, Pair, Share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When would a technological change have a negative impact on an individual?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oping with Technological Change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679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531360" indent="-53136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New technologies equal new stresses for the individual.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31360" indent="-53136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echnologies can have negative side effects: there’s always the issue of keeping up with the rate of change.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31360" indent="-53136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Keeping up with the rate of technological change can result in </a:t>
            </a:r>
            <a:r>
              <a:rPr b="0" lang="en-US" sz="3600" spc="-1" strike="noStrike" u="sng">
                <a:solidFill>
                  <a:srgbClr val="422e1f"/>
                </a:solidFill>
                <a:uFillTx/>
                <a:latin typeface="Bodoni SvtyTwo ITC TT-Bold"/>
              </a:rPr>
              <a:t>cultural lag</a:t>
            </a:r>
            <a:r>
              <a:rPr b="0" lang="en-US" sz="3600" spc="-1" strike="noStrike" u="sng">
                <a:solidFill>
                  <a:srgbClr val="422e1f"/>
                </a:solidFill>
                <a:uFillTx/>
                <a:latin typeface="Bodoni SvtyTwo ITC TT-Book"/>
              </a:rPr>
              <a:t>:</a:t>
            </a: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 During technological change, a society has to adapt and is temporarily destabilized. Resistance to the tech change causes a ‘cultural lag’ where people fall behind.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Impact of Technology on the Family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560160" indent="-56016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After WWII, there was a </a:t>
            </a:r>
            <a:r>
              <a:rPr b="0" lang="en-US" sz="3600" spc="-1" strike="noStrike">
                <a:solidFill>
                  <a:srgbClr val="422e1f"/>
                </a:solidFill>
                <a:latin typeface="Bodoni SvtyTwo ITC TT-Bold"/>
              </a:rPr>
              <a:t>mass culture</a:t>
            </a: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 in which people of all social classes in Canada could participate (e.g., radios and televisions were much more affordable).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6016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60160" indent="-56016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With this mass culture and the introduction of new technologies in the home, many changes occurred, namely the way families interacted </a:t>
            </a:r>
            <a:r>
              <a:rPr b="0" lang="en-US" sz="2000" spc="-1" strike="noStrike">
                <a:solidFill>
                  <a:srgbClr val="422e1f"/>
                </a:solidFill>
                <a:latin typeface="Bodoni SvtyTwo ITC TT-Book"/>
              </a:rPr>
              <a:t>(e.g., instead of doing puzzles together, families now listened to the radio or watched television together)</a:t>
            </a:r>
            <a:endParaRPr b="0" lang="en-US" sz="20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368280" y="380880"/>
            <a:ext cx="12026880" cy="685800"/>
          </a:xfrm>
          <a:prstGeom prst="rect">
            <a:avLst/>
          </a:prstGeom>
          <a:noFill/>
          <a:ln w="12600">
            <a:solidFill>
              <a:srgbClr val="8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hanges in Land Use &amp; Agriculture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63" name=""/>
          <p:cNvSpPr/>
          <p:nvPr/>
        </p:nvSpPr>
        <p:spPr>
          <a:xfrm>
            <a:off x="5041800" y="1397160"/>
            <a:ext cx="2921040" cy="1269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Hunter - Gatherer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64" name=""/>
          <p:cNvSpPr/>
          <p:nvPr/>
        </p:nvSpPr>
        <p:spPr>
          <a:xfrm>
            <a:off x="1092240" y="2476440"/>
            <a:ext cx="2654280" cy="1270080"/>
          </a:xfrm>
          <a:prstGeom prst="roundRect">
            <a:avLst>
              <a:gd name="adj" fmla="val 150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Horticultural Society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65" name=""/>
          <p:cNvSpPr/>
          <p:nvPr/>
        </p:nvSpPr>
        <p:spPr>
          <a:xfrm>
            <a:off x="9258480" y="2476440"/>
            <a:ext cx="2654280" cy="1270080"/>
          </a:xfrm>
          <a:prstGeom prst="roundRect">
            <a:avLst>
              <a:gd name="adj" fmla="val 150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Pastoral Society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3847320" y="2171520"/>
            <a:ext cx="1104840" cy="493560"/>
          </a:xfrm>
          <a:prstGeom prst="line">
            <a:avLst/>
          </a:prstGeom>
          <a:ln w="25560">
            <a:solidFill>
              <a:srgbClr val="422e1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67" name=""/>
          <p:cNvSpPr/>
          <p:nvPr/>
        </p:nvSpPr>
        <p:spPr>
          <a:xfrm flipH="1" flipV="1">
            <a:off x="8064000" y="2133360"/>
            <a:ext cx="1117800" cy="571320"/>
          </a:xfrm>
          <a:prstGeom prst="line">
            <a:avLst/>
          </a:prstGeom>
          <a:ln w="25560">
            <a:solidFill>
              <a:srgbClr val="422e1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68" name=""/>
          <p:cNvSpPr/>
          <p:nvPr/>
        </p:nvSpPr>
        <p:spPr>
          <a:xfrm>
            <a:off x="5168880" y="3213000"/>
            <a:ext cx="2654280" cy="219708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Agricultural Society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69" name=""/>
          <p:cNvSpPr/>
          <p:nvPr/>
        </p:nvSpPr>
        <p:spPr>
          <a:xfrm flipH="1" flipV="1">
            <a:off x="3835440" y="3390480"/>
            <a:ext cx="1371600" cy="546120"/>
          </a:xfrm>
          <a:prstGeom prst="line">
            <a:avLst/>
          </a:prstGeom>
          <a:ln w="25560">
            <a:solidFill>
              <a:srgbClr val="422e1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7848720" y="3479400"/>
            <a:ext cx="1358640" cy="482760"/>
          </a:xfrm>
          <a:prstGeom prst="line">
            <a:avLst/>
          </a:prstGeom>
          <a:ln w="25560">
            <a:solidFill>
              <a:srgbClr val="422e1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71" name=""/>
          <p:cNvSpPr/>
          <p:nvPr/>
        </p:nvSpPr>
        <p:spPr>
          <a:xfrm>
            <a:off x="4610160" y="5740560"/>
            <a:ext cx="3543120" cy="647640"/>
          </a:xfrm>
          <a:prstGeom prst="roundRect">
            <a:avLst>
              <a:gd name="adj" fmla="val 29407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Industrial Society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6477120" y="5067360"/>
            <a:ext cx="0" cy="596880"/>
          </a:xfrm>
          <a:prstGeom prst="line">
            <a:avLst/>
          </a:prstGeom>
          <a:ln w="25560">
            <a:solidFill>
              <a:srgbClr val="422e1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73" name=""/>
          <p:cNvSpPr/>
          <p:nvPr/>
        </p:nvSpPr>
        <p:spPr>
          <a:xfrm>
            <a:off x="4610160" y="6934320"/>
            <a:ext cx="3543120" cy="571320"/>
          </a:xfrm>
          <a:prstGeom prst="roundRect">
            <a:avLst>
              <a:gd name="adj" fmla="val 33333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Postindustrial Society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6477120" y="6515280"/>
            <a:ext cx="0" cy="380880"/>
          </a:xfrm>
          <a:prstGeom prst="line">
            <a:avLst/>
          </a:prstGeom>
          <a:ln w="25560">
            <a:solidFill>
              <a:srgbClr val="422e1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9999"/>
                </a:solidFill>
                <a:uFillTx/>
                <a:latin typeface="Bodoni SvtyTwo ITC TT-Book"/>
                <a:hlinkClick r:id="rId2"/>
              </a:rPr>
              <a:t>Your future…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4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10 top jobs that have not existed 10 years ago…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3"/>
          <a:stretch/>
        </p:blipFill>
        <p:spPr>
          <a:xfrm>
            <a:off x="2997360" y="3505320"/>
            <a:ext cx="6095880" cy="50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422e1f"/>
                </a:solidFill>
                <a:latin typeface="Bodoni SvtyTwo ITC TT-Book"/>
              </a:rPr>
              <a:t>By 2049 it’s estimated that a $1000 computer…</a:t>
            </a:r>
            <a:endParaRPr b="0" lang="en-US" sz="58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2"/>
          <a:stretch/>
        </p:blipFill>
        <p:spPr>
          <a:xfrm>
            <a:off x="1549440" y="2590920"/>
            <a:ext cx="10287000" cy="48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2082960" y="2496960"/>
            <a:ext cx="929628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422e1f"/>
                </a:solidFill>
                <a:latin typeface="Bodoni SvtyTwo ITC TT-Book"/>
              </a:rPr>
              <a:t>Vertical farming technology should replace traditional agriculture???</a:t>
            </a:r>
            <a:endParaRPr b="0" lang="en-US" sz="58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15920" indent="0">
              <a:lnSpc>
                <a:spcPct val="14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comic"/>
              </a:rPr>
              <a:t>3</a:t>
            </a: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 </a:t>
            </a:r>
            <a:r>
              <a:rPr b="0" lang="en-US" sz="2800" spc="-1" strike="noStrike">
                <a:solidFill>
                  <a:srgbClr val="422e1f"/>
                </a:solidFill>
                <a:latin typeface="Bodoni SvtyTwo ITC TT-Book"/>
              </a:rPr>
              <a:t>YES’s</a:t>
            </a: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: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1015920" indent="0">
              <a:lnSpc>
                <a:spcPct val="14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1015920" indent="0">
              <a:lnSpc>
                <a:spcPct val="14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1015920" indent="0">
              <a:lnSpc>
                <a:spcPct val="14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comic"/>
              </a:rPr>
              <a:t>3</a:t>
            </a: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 </a:t>
            </a:r>
            <a:r>
              <a:rPr b="0" lang="en-US" sz="2800" spc="-1" strike="noStrike">
                <a:solidFill>
                  <a:srgbClr val="422e1f"/>
                </a:solidFill>
                <a:latin typeface="Bodoni SvtyTwo ITC TT-Book"/>
              </a:rPr>
              <a:t>NO’s</a:t>
            </a: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: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Technology and </a:t>
            </a:r>
            <a:r>
              <a:rPr b="0" lang="en-US" sz="6400" spc="-1" strike="noStrike" u="sng">
                <a:solidFill>
                  <a:srgbClr val="009999"/>
                </a:solidFill>
                <a:uFillTx/>
                <a:latin typeface="Bodoni SvtyTwo ITC TT-Book"/>
                <a:hlinkClick r:id="rId2"/>
              </a:rPr>
              <a:t>war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lnSpc>
                <a:spcPct val="14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Connect the two terms… 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MEDIA and WAR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MEDIA and SOCIAL IDENTITY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WAR and PSYCHOLOGY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TECHNOLOGY and PEACE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0">
              <a:lnSpc>
                <a:spcPct val="14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10464840" cy="1181160"/>
          </a:xfrm>
          <a:prstGeom prst="rect">
            <a:avLst/>
          </a:prstGeom>
          <a:noFill/>
          <a:ln w="88920">
            <a:solidFill>
              <a:srgbClr val="ffffff"/>
            </a:solidFill>
            <a:miter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alkboard"/>
              </a:rPr>
              <a:t>Social Change: Test Review </a:t>
            </a:r>
            <a:endParaRPr b="0" lang="en-US" sz="5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88920" y="1447920"/>
            <a:ext cx="12738240" cy="723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ocial Change: Describe what it is &amp; state the forces that influence it &amp; impede i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onformity &amp; Alienation: Describe both terms &amp; state the positive &amp; negative aspects of each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Describe the following terms &amp; state how each are related to Social Change: Social Norms, Anarchy &amp; Activism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Describe what Poverty is &amp; give a brief overview of Poverty in Toronto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echnology Change: Describe what it is &amp; identify the difference in how Anthropologists, Sociologists, and Psychologist view the Impact of Technological Chang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Technology’s impact: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58360" y="380520"/>
            <a:ext cx="1163340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548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48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48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48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48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</a:rPr>
              <a:t>Positive…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48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48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48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48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48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</a:rPr>
              <a:t>Negative… 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Technology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ld"/>
              </a:rPr>
              <a:t>Technology</a:t>
            </a: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 is the creation of tools or objects that both extend our natural abilities and alter our social environmen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It is hard to determine whether or not change begins with the individual or technology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ome theorists believe that an invention such as a computer takes over our lives and that society simply reacts to the change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47640" y="152280"/>
            <a:ext cx="11709360" cy="242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2e1f"/>
                </a:solidFill>
                <a:latin typeface="Bodoni SvtyTwo ITC TT-Book"/>
              </a:rPr>
              <a:t>Impact of Technology: Sociological Theory</a:t>
            </a:r>
            <a:endParaRPr b="0" lang="en-US" sz="48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ivilizations rise and fall based on their ability to adapt.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echnology contributes to the rise and fall of a society.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Despite some regression, society generally improves.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echnology is instrumental in social change.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6"/>
          <a:stretch/>
        </p:blipFill>
        <p:spPr>
          <a:xfrm>
            <a:off x="8940960" y="1752480"/>
            <a:ext cx="2234880" cy="138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Think, Pair, Share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35040" y="1066320"/>
            <a:ext cx="11633040" cy="403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echnology is NOT instrumental in social change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2e1f"/>
                </a:solidFill>
                <a:latin typeface="Bodoni SvtyTwo ITC TT-Book"/>
              </a:rPr>
              <a:t>Impact of Technology: Anthropological Theory</a:t>
            </a:r>
            <a:endParaRPr b="0" lang="en-US" sz="48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As societies interact, cultural sharing occurs.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echnology tends to </a:t>
            </a:r>
            <a:r>
              <a:rPr b="1" lang="en-US" sz="3600" spc="-1" strike="noStrike">
                <a:solidFill>
                  <a:srgbClr val="422e1f"/>
                </a:solidFill>
                <a:latin typeface="Bodoni SvtyTwo ITC TT-Book"/>
              </a:rPr>
              <a:t>destabilize</a:t>
            </a: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 society.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New technology forces society to find a way to overcome instability and create new balance.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us technology forces change via adaptation.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Think, Pair, Share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Do different cultures and socities always adapt successfully to new technologies?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2e1f"/>
                </a:solidFill>
                <a:latin typeface="Bodoni SvtyTwo ITC TT-Book"/>
              </a:rPr>
              <a:t>Impact of Technology: Psychological Theory</a:t>
            </a:r>
            <a:endParaRPr b="0" lang="en-US" sz="48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711360" y="266652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More mental stability in an individual means more stability in society (through technology).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echnology arises out of the human need to achieve.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Innovation is the result of individuals wanting to leave their mark on society.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5"/>
          <a:stretch/>
        </p:blipFill>
        <p:spPr>
          <a:xfrm>
            <a:off x="9855360" y="1219320"/>
            <a:ext cx="2349360" cy="23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aa</cp:lastModifiedBy>
  <dcterms:modified xsi:type="dcterms:W3CDTF">2011-02-21T20:36:53Z</dcterms:modified>
  <cp:revision>4</cp:revision>
  <dc:subject/>
  <dc:title>Technology</dc:title>
</cp:coreProperties>
</file>